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B9D-E008-40C6-AAE9-23C75EDC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536-D5AA-4168-BEA2-8C9F5A29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614-5A7D-4D4B-A07C-53FAE83C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7B0-2821-4293-9654-90DC8E8B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4D069-7EF7-4131-94C2-20A7F756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C79DF-5E41-4701-AB8C-B0E8ADFA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85CE9-15AE-4296-9890-26A14933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3141C-3BDD-405B-9FB7-734A5370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9943E-FEB7-4560-B60A-A068D8AC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30573-263F-4451-9821-2FC8D695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256EC-44B3-4787-B972-14263A8F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30F-7330-42DF-A39B-40125B04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CF69C-AABB-41F8-8EF3-5FBC8AE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BA5A8-9BF0-4CCA-A6E8-E8D4BA6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B6F1B-3150-4AB0-956C-DFB3D846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2886-61BC-41E8-A298-A5CAE2AC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576D7-5BBC-4CFC-9300-9DAA8AEF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E11-29BD-4F17-8DC4-DC659CC8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5EA-F582-4C5B-8925-8568812F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183-C091-4CEC-A610-A7A47B2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555-0459-468F-A5BD-3CFDCB5A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C1B-CF42-4055-9A3A-ECB7288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223-AD6A-487C-8AAC-E45BAF6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A20-06CF-4274-8F98-373EFDF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9E5-8540-406A-BD1F-148CFE508C9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FF2-4467-4B21-AA92-BD2CA6A129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Lesson11 </a:t>
            </a: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Orange,Brown,White,Black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49417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它是什么颜色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8713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12400" spc="-1" strike="noStrike">
                <a:solidFill>
                  <a:srgbClr val="ffffff"/>
                </a:solidFill>
                <a:latin typeface="Tahoma"/>
              </a:rPr>
              <a:t>What colour is it?</a:t>
            </a:r>
            <a:endParaRPr b="0" lang="en-US" sz="1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-674640"/>
            <a:ext cx="8686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orange </a:t>
            </a: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橙色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767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50115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brown </a:t>
            </a: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棕色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white</a:t>
            </a: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白色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938240"/>
            <a:ext cx="91440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black </a:t>
            </a: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黑色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93356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复习颜色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ff"/>
                </a:solidFill>
                <a:latin typeface="Tahoma"/>
              </a:rPr>
              <a:t>red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19640" y="2060640"/>
            <a:ext cx="5724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blac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635280" y="1844640"/>
            <a:ext cx="5508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17840" y="1700280"/>
            <a:ext cx="4826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1746360"/>
            <a:ext cx="579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brow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5003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Letters </a:t>
            </a: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字母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gree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0360" y="1773360"/>
            <a:ext cx="5003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orange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50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④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作业：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2916360" cy="180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266364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580000" y="184464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2916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97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school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tea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umbrella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vetetables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各写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遍。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728720"/>
            <a:ext cx="9144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051236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9010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ff"/>
                </a:solidFill>
                <a:latin typeface="Tahoma"/>
              </a:rPr>
              <a:t>umbrella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24000" y="189000"/>
            <a:ext cx="10512720" cy="74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vegetables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9:29:19Z</dcterms:created>
  <dc:creator>微软用户</dc:creator>
  <dc:description/>
  <dc:language>en-US</dc:language>
  <cp:lastModifiedBy>微软用户</cp:lastModifiedBy>
  <dcterms:modified xsi:type="dcterms:W3CDTF">2014-09-10T09:39:44Z</dcterms:modified>
  <cp:revision>18</cp:revision>
  <dc:subject/>
  <dc:title>Lesson11 Orange,Brown,White,Black</dc:title>
</cp:coreProperties>
</file>